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237960"/>
            <a:ext cx="0" cy="6391440"/>
          </a:xfrm>
          <a:prstGeom prst="line">
            <a:avLst/>
          </a:prstGeom>
          <a:ln w="50760">
            <a:solidFill>
              <a:srgbClr val="a2c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4280" y="76320"/>
            <a:ext cx="7839000" cy="0"/>
          </a:xfrm>
          <a:prstGeom prst="line">
            <a:avLst/>
          </a:prstGeom>
          <a:ln w="50760">
            <a:solidFill>
              <a:srgbClr val="a2c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381880" y="0"/>
            <a:ext cx="793800" cy="96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"/>
          <p:cNvSpPr/>
          <p:nvPr/>
        </p:nvSpPr>
        <p:spPr>
          <a:xfrm>
            <a:off x="7957440" y="6310440"/>
            <a:ext cx="1677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654C-94AB-43BF-966B-FA2F6E463464}" type="slidenum"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42160" y="6400800"/>
            <a:ext cx="17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B2A10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sto MT"/>
              </a:rPr>
              <a:t>Manage Enlisted Promotions and Reductions</a:t>
            </a:r>
            <a:endParaRPr b="1" lang="en-US" sz="60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sto MT"/>
              </a:rPr>
              <a:t>Terminal Learning Objective</a:t>
            </a:r>
            <a:endParaRPr b="1" lang="en-US" sz="4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Action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: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anage Enlisted Promotions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and Reductions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Conditions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:  Given AR 600-8-19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sto MT"/>
              </a:rPr>
              <a:t>Terminal Learning Objective</a:t>
            </a:r>
            <a:endParaRPr b="1" lang="en-US" sz="4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Standards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:  1.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nsured that a complete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decentralized promotion cycle was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established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Verified that all decentralized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promotions were processed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correctly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sto MT"/>
              </a:rPr>
              <a:t>Terminal Learning Objective</a:t>
            </a:r>
            <a:endParaRPr b="1" lang="en-US" sz="4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Standards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:  3.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nsured that a complete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semicentralized promotion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cycle was established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sto MT"/>
              </a:rPr>
              <a:t>Terminal Learning Objective</a:t>
            </a:r>
            <a:endParaRPr b="1" lang="en-US" sz="4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Standards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:   4.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Verified that soldiers being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 considered for centralized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 promotions met the eligibility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 criteria before the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 Headquarters Department of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 the Army (HQDA) board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 convened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sto MT"/>
              </a:rPr>
              <a:t>Terminal Learning Objective</a:t>
            </a:r>
            <a:endParaRPr b="1" lang="en-US" sz="4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Standards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:   5.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Verified that all centralized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(SFC, MSG, SGM) promotions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were processed correctly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6.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Verified that all reductions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were processed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sto MT"/>
              </a:rPr>
              <a:t>Terminal Learning Objective</a:t>
            </a:r>
            <a:endParaRPr b="1" lang="en-US" sz="44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Standards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:   7.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nsured wartime standards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 for promotions were adhered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o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Summary</a:t>
            </a: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In this lesson, you learned: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e three levels of the Enlisted Promotion System and their unique characteristics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e principals of reduction and the responsibilities of a Human Resources Sergeant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3T22:27:02Z</dcterms:created>
  <dc:creator>ADG</dc:creator>
  <dc:description/>
  <dc:language>en-US</dc:language>
  <cp:lastModifiedBy>Administrator</cp:lastModifiedBy>
  <cp:lastPrinted>1998-12-08T20:03:49Z</cp:lastPrinted>
  <dcterms:modified xsi:type="dcterms:W3CDTF">2005-07-08T18:50:56Z</dcterms:modified>
  <cp:revision>9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S:\TD\Tdd\ANCOC\75H CTDF\ANNEX B\CCB5H108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